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82446"/>
        <c:axId val="25799211"/>
      </c:barChart>
      <c:catAx>
        <c:axId val="61582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99211"/>
        <c:crosses val="autoZero"/>
        <c:auto val="1"/>
        <c:lblAlgn val="ctr"/>
        <c:lblOffset val="100"/>
        <c:noMultiLvlLbl val="0"/>
      </c:catAx>
      <c:valAx>
        <c:axId val="25799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82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2FC-364B-4057-A451-6DE1169D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7DE-27B1-4F41-90DB-80A2F5F7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D17-583D-4493-BCFD-6A25F416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111-7505-4990-8204-042CEE67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FB8-B497-415C-BCC5-D3C649D3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FBA-B7B8-4139-9959-7407E136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D1D-CC2B-469A-B4AF-15E22C66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822-B905-4556-9920-0D34D990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E92-3668-4FF0-8FB4-B871904E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381-86B3-4990-BDE7-CEE1C1B2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3C6-8A82-41A8-9FDA-F75A3BC3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9B4-0A38-4CF4-825B-9E9AF4E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99BEB-3056-4BF9-A25E-90A349602C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