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36248"/>
        <c:axId val="95693981"/>
      </c:barChart>
      <c:catAx>
        <c:axId val="62036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93981"/>
        <c:crosses val="autoZero"/>
        <c:auto val="1"/>
        <c:lblAlgn val="ctr"/>
        <c:lblOffset val="100"/>
        <c:noMultiLvlLbl val="0"/>
      </c:catAx>
      <c:valAx>
        <c:axId val="95693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36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321F-9150-4732-8852-C755F872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E582-090D-4670-A35E-C0168D53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F01-180E-41B6-B445-0D7B0DC6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1570-353B-4509-AB11-93C00537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467-B056-4E6E-94C9-B19E9A51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8585-FBF0-4F84-AD5B-E03DB5D0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43E-3FB7-44C8-A4DF-F3BE8A0B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EF5-BD75-4724-AC5C-FB14FEA0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260-5EA7-41FC-BBB7-6AD47749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91A-C213-4B43-AD69-BAEFBB21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C323-E4EA-423E-99C1-0C3ACB88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29B-9803-4A15-93F3-5250404E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8E2CA-63F7-4FF4-9BBD-17A9AAB8BE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