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911654"/>
        <c:axId val="90245594"/>
      </c:barChart>
      <c:catAx>
        <c:axId val="549116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45594"/>
        <c:crosses val="autoZero"/>
        <c:auto val="1"/>
        <c:lblAlgn val="ctr"/>
        <c:lblOffset val="100"/>
        <c:noMultiLvlLbl val="0"/>
      </c:catAx>
      <c:valAx>
        <c:axId val="902455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9116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905C-9E53-465A-B159-586D445BB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C7FC-6BDC-4552-BE2F-C26C3018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AD2C-DE1C-498B-95F2-54E027525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B915-B977-46D3-8E96-AAB812575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DA8E-BDE0-4A3A-A9F7-0407571E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35F5-7D48-4FED-A005-109913A0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4125-272E-4512-8505-9030CB2C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392A-CFCB-4C10-9206-CFA257B5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7DAB-CEA9-443E-AD4E-427BDC3B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03F1-1B0D-4B71-9C72-63A6D4B9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A461-DC5C-4F7C-8D78-A4FFD599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EB0A-B82D-40B3-91CE-3E153CB3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C6C98-88A8-4A45-8DD0-0056B97C15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