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47013"/>
        <c:axId val="95392268"/>
      </c:barChart>
      <c:catAx>
        <c:axId val="63447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92268"/>
        <c:crosses val="autoZero"/>
        <c:auto val="1"/>
        <c:lblAlgn val="ctr"/>
        <c:lblOffset val="100"/>
        <c:noMultiLvlLbl val="0"/>
      </c:catAx>
      <c:valAx>
        <c:axId val="95392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47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BA5-23A5-4E7E-8211-E77AB061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9BB-6967-4647-8566-A5022FB6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374-D430-4C95-856B-E8987A81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732-8EC1-4654-8AB4-966B30EE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083-1414-412A-8278-AD5EDA66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8B0-4D6C-45F9-B5DF-16867B57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3AC-9D31-4624-BD77-03A3AF71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844-8B4A-4EE5-98C5-3CA4B72F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B9A-20D9-45B0-98F9-8B80E5E3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4C8-E2F8-4586-B890-43DFA399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003-F64E-4615-9C3C-CE2F2D9F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E74-BCB5-4F9F-9AF1-F27DD71A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85DC9-55E7-4DC4-96DA-163040F1B9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