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08741"/>
        <c:axId val="26195781"/>
      </c:barChart>
      <c:catAx>
        <c:axId val="25708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95781"/>
        <c:crosses val="autoZero"/>
        <c:auto val="1"/>
        <c:lblAlgn val="ctr"/>
        <c:lblOffset val="100"/>
        <c:noMultiLvlLbl val="0"/>
      </c:catAx>
      <c:valAx>
        <c:axId val="26195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8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75F-30D8-4B97-AED2-236BA7D3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0EC-8B3D-4604-B860-E322653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525-CB98-43B5-949C-2240A28A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C10-3B2E-464C-941F-DB5164A4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C51-54D5-4D60-A420-7E4067EA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6D6-294A-435C-8E20-4255B0CD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BCF-AC26-485A-BE66-D2E40957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4C1-B8F2-459F-8D37-744E15C7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987-9EF6-402D-9CAE-009D276E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E6E-CC62-4117-B0A9-DAC0FAD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E2B-6EE4-4A60-9353-05E5439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216-0D5A-46B4-BA53-1EB6C72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99C57-25B0-461A-9FA2-B42E764FB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