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874722"/>
        <c:axId val="7433051"/>
      </c:barChart>
      <c:catAx>
        <c:axId val="418747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3051"/>
        <c:crosses val="autoZero"/>
        <c:auto val="1"/>
        <c:lblAlgn val="ctr"/>
        <c:lblOffset val="100"/>
        <c:noMultiLvlLbl val="0"/>
      </c:catAx>
      <c:valAx>
        <c:axId val="74330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747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C8F6-2370-4099-AFFB-CCDE7FEF2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141F-0376-48ED-893D-993090BB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7C89-1715-4532-A9D6-A932DDCD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82E4-E19E-470B-AB2A-B68CA468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983F-6D07-4AD1-8F5C-41DA8E4C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3634-7E73-48B1-96E7-70763C1E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8E3F-6E6E-48D7-AAA1-D388C244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6BF0-F49E-4434-9969-A6D4A4B2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2D21-2F31-4CF7-8BA2-955C7AA8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7F4F-D9F2-40C7-89CF-98331B50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C857-4296-4C23-A6DD-677356E1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F4CB-7B8E-4DCE-B73B-4D779C66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0AC3A-6643-4104-8A80-8C0CE3A9BD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