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45265"/>
        <c:axId val="83311067"/>
      </c:barChart>
      <c:catAx>
        <c:axId val="56945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1067"/>
        <c:crosses val="autoZero"/>
        <c:auto val="1"/>
        <c:lblAlgn val="ctr"/>
        <c:lblOffset val="100"/>
        <c:noMultiLvlLbl val="0"/>
      </c:catAx>
      <c:valAx>
        <c:axId val="83311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5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87C-DF30-4572-98A9-19072F2D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98C-A342-429A-B40A-B70B57A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089-8DA0-4E07-A7F0-380C86F7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178-EEE7-45CB-82B8-484A6B0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4B7-65F9-4E56-8C34-7B13656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0DB-B8CA-4F41-83CB-1CBAF08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D49-E43B-453D-9AC8-32E86A2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65A-42F3-4296-829F-BAB9E859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0B5-E900-484B-940A-D5702C81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FB8-22EA-44FE-AFA6-7E224D9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BD1-9E8F-4DAC-9F4C-D545245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6EF-5075-4CC0-B76E-90452A3E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59ED-D88C-47FF-AEE7-84BF9D1BA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