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843259"/>
        <c:axId val="48267974"/>
      </c:barChart>
      <c:catAx>
        <c:axId val="788432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67974"/>
        <c:crosses val="autoZero"/>
        <c:auto val="1"/>
        <c:lblAlgn val="ctr"/>
        <c:lblOffset val="100"/>
        <c:noMultiLvlLbl val="0"/>
      </c:catAx>
      <c:valAx>
        <c:axId val="482679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432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88E5-0BD3-4967-ADF7-7B2B28FF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B30C-00A1-4DC7-9D51-05EBEA68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6E7A-C806-4E97-BE94-80B826B1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9619-A721-4C43-8D7D-D1065762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B1DC-34A8-450C-9F2C-DBB1972A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9983-1306-4FE2-B3CE-E9630AC0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4709-EBAD-4D12-8F22-A58102FF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A78C-2D03-47E8-8DA1-0280BED2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079D-8B2E-48F1-9914-1983C98E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9F5D-316C-453C-B898-66AB7A97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145E-1F3E-441A-A62E-6D62A876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4106-CF86-489C-9359-C51777C2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E174C-63BD-45E3-9125-44D1673BFD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