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42613"/>
        <c:axId val="30609190"/>
      </c:barChart>
      <c:catAx>
        <c:axId val="29242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9190"/>
        <c:crosses val="autoZero"/>
        <c:auto val="1"/>
        <c:lblAlgn val="ctr"/>
        <c:lblOffset val="100"/>
        <c:noMultiLvlLbl val="0"/>
      </c:catAx>
      <c:valAx>
        <c:axId val="30609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42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271-68DA-4E83-9B7D-1DB509F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84B-D7D3-4690-A57C-FB3D40C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D2F-976F-47E0-9A63-FD9318D5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0E5-3075-497B-BAC5-6B2BDD65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CD2-EE85-4FA7-A8C5-0DF8298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C69-CD75-4A4B-90DB-44D8C74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002-329A-45E5-B860-1866709F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1F7-A907-4F1C-935A-10761F4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252-F019-4835-A9AD-6A9CBD1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57F-3581-49D7-9871-AB7430B4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5DA-522E-44B2-A71B-EFD3ECC7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FEF-FC99-4962-91CB-4FB6DDC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A5E55-A7DC-4C3B-9078-90C01F8832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