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780127"/>
        <c:axId val="50452728"/>
      </c:barChart>
      <c:catAx>
        <c:axId val="607801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452728"/>
        <c:crosses val="autoZero"/>
        <c:auto val="1"/>
        <c:lblAlgn val="ctr"/>
        <c:lblOffset val="100"/>
        <c:noMultiLvlLbl val="0"/>
      </c:catAx>
      <c:valAx>
        <c:axId val="504527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7801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541F-CC6F-4E9C-8D98-BFCBAFA1D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D9DE-EC83-4062-8002-B85DFA709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E730-DB60-4678-9781-DC216AFC9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73A2-4884-44AA-8421-28438E3F1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0E8E-3050-4DDE-9980-033856EFA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DF6D-D68F-43CD-B369-E4B659622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052F-9751-4EEC-81BA-08585C7FF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0CB6-5DFF-4E2D-AC29-F3CA729DC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EB16-A4D5-4B21-BF59-77214829E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9642-2DD4-4018-84CC-2A579BCB2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10A4-4198-4FD2-AD30-DA804C0F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1F17-0714-44C0-A222-02D088F45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E445AA-5E6C-4353-B1F0-4A395B62A96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