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98794"/>
        <c:axId val="1676736"/>
      </c:barChart>
      <c:catAx>
        <c:axId val="94398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6736"/>
        <c:crosses val="autoZero"/>
        <c:auto val="1"/>
        <c:lblAlgn val="ctr"/>
        <c:lblOffset val="100"/>
        <c:noMultiLvlLbl val="0"/>
      </c:catAx>
      <c:valAx>
        <c:axId val="1676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98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A00-97BF-4276-AD45-BF4C4827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B39-C2BF-4A2A-89E4-1388E8B5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F3A-441C-493F-B2CC-A977F9D5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89E4-E53B-4E93-902D-16FC8B8C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003-1853-4CD5-8BE4-C9711F6A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8D4-2CFE-4600-9B17-22F4299D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487-53EB-4790-8F96-2B66F406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E04-E79C-4AB4-AA66-9A2EF49F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C2F-2E62-429C-9E55-D7D066CF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80A-EB51-4BB2-9B31-945179F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A1F-B6B6-4BD7-B8DA-9C044B3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E33-3A9E-49F9-8813-39EF9E0F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27C4E-D028-4918-82EA-85D736D924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