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050339"/>
        <c:axId val="34312490"/>
      </c:barChart>
      <c:catAx>
        <c:axId val="240503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312490"/>
        <c:crosses val="autoZero"/>
        <c:auto val="1"/>
        <c:lblAlgn val="ctr"/>
        <c:lblOffset val="100"/>
        <c:noMultiLvlLbl val="0"/>
      </c:catAx>
      <c:valAx>
        <c:axId val="343124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0503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89C1-C722-4C07-9515-243BD7086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8DBA-D78D-440D-A32F-9CCF87D5A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0D95-ADF8-4778-9B97-67A8B2063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43A1-E7E0-4A8A-96B6-5C4832DE6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46CD-2BF9-4F5A-A72B-E878A55E7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2922-3C5C-4F39-B299-E25594FC0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7895-D642-4CB3-8727-B0EF277E0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73FD-7974-4F17-8981-98AC09A35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B1F5-CE15-45A4-A846-440682A59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E815-A467-4971-AF69-3B1E7CA7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A55C-93C5-42A2-A7CC-9ED43ACB0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1F14-3750-49B4-95F4-51B296AB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5B1551-ED58-4689-9D59-290F4DA6EC4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