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46173"/>
        <c:axId val="77075744"/>
      </c:barChart>
      <c:catAx>
        <c:axId val="98046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5744"/>
        <c:crosses val="autoZero"/>
        <c:auto val="1"/>
        <c:lblAlgn val="ctr"/>
        <c:lblOffset val="100"/>
        <c:noMultiLvlLbl val="0"/>
      </c:catAx>
      <c:valAx>
        <c:axId val="77075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46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C56-9B42-4382-A3BD-28FE3D95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791-0B33-4A0F-8C8A-1F47D762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C2C-06B1-4CC3-83DE-26F2406D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31B-4049-40E2-A050-9B9ACBF6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5F0-CD0C-4D1D-BAFA-4BF67CEE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AD4-ACF3-462A-BBCF-2DB47F11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85F-C76C-4D51-88D1-C933E5B6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414-F28A-4F68-82A0-D5D51121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138-61F3-41C7-BAC6-24502C17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DCC-E8FD-4E03-AAFE-F91B14E6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F2E-B855-4421-AA79-EF5EEB74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554-F9A8-49FC-8FBA-7B9EC973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5F07-332C-4517-B500-17D6F3A29C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