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49512"/>
        <c:axId val="86164131"/>
      </c:barChart>
      <c:catAx>
        <c:axId val="30849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64131"/>
        <c:crosses val="autoZero"/>
        <c:auto val="1"/>
        <c:lblAlgn val="ctr"/>
        <c:lblOffset val="100"/>
        <c:noMultiLvlLbl val="0"/>
      </c:catAx>
      <c:valAx>
        <c:axId val="86164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49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4CF-CC34-4ED3-B172-5C8D866C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44F-FCAD-4C3A-82B9-DD6CCDCF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781-ED68-464B-8BDE-D0DE6836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187-C5BA-4B53-9852-31E63BF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639-73EA-44C8-8C1A-50E84D9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95C-605E-492D-893C-C6AE478E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82C-AE94-4A0B-9780-30177362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32F-2CFC-449A-9E6E-2B2D109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725-985E-4C8D-B2D5-EFE13548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4E6-FDFD-491F-99EB-5181BF5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1D7-43CA-42B6-AB2F-C8B5E4B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C5E-E925-4CC6-87C9-243E452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BD719-73DF-44AB-A439-570DA7E6E7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