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404500"/>
        <c:axId val="55714725"/>
      </c:barChart>
      <c:catAx>
        <c:axId val="564045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14725"/>
        <c:crosses val="autoZero"/>
        <c:auto val="1"/>
        <c:lblAlgn val="ctr"/>
        <c:lblOffset val="100"/>
        <c:noMultiLvlLbl val="0"/>
      </c:catAx>
      <c:valAx>
        <c:axId val="557147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045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0D70-33A6-473C-A9A9-57BE1DA7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A8C1-9729-431F-B4A2-83F33A2E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7818-C4FF-49A9-8F3C-AC237ABB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9C82-8224-49F8-BFEE-8498D979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DD43-B240-4716-952F-1D8EDFCD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2002-9857-4826-9E1A-61270038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C17-FC1A-460A-A197-291A2F46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DDCD-99D6-4457-9A41-7CA6924B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393-1108-448C-90F5-955B81E8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7332-9C5C-4514-AFA1-FD944168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F02-0602-47A6-8D3B-857B2C77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C941-A5FC-4A24-A318-6B4F3214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63DC8-0427-4422-8ACC-3EF89BB262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