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358039"/>
        <c:axId val="19567757"/>
      </c:barChart>
      <c:catAx>
        <c:axId val="363580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67757"/>
        <c:crosses val="autoZero"/>
        <c:auto val="1"/>
        <c:lblAlgn val="ctr"/>
        <c:lblOffset val="100"/>
        <c:noMultiLvlLbl val="0"/>
      </c:catAx>
      <c:valAx>
        <c:axId val="195677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580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AD97-73CA-4972-B831-1369EB451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8B5B-F7FA-431E-8002-3E40BC5B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CC89-3E7B-4A2F-BED6-FBDC1906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7F91-8F66-4001-AC56-6F724410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6964-127A-456C-BCE2-6748F9A2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7A8F-4C2E-46CA-AFF0-4BEFC8F1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C935-75EA-468C-86D8-266DA07B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32E0-F4EE-45EE-9D7E-14F598DF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EBEB-AF29-45BA-B189-9F26952C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C271-6004-4D52-A14F-22B29045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F5AF-EDD1-4757-A4B3-B4224894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98C0-D205-4033-B776-52DB2EF4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6A953-09A4-4CCB-8586-31281FA02A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