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0545"/>
        <c:axId val="14666726"/>
      </c:barChart>
      <c:catAx>
        <c:axId val="2730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6726"/>
        <c:crosses val="autoZero"/>
        <c:auto val="1"/>
        <c:lblAlgn val="ctr"/>
        <c:lblOffset val="100"/>
        <c:noMultiLvlLbl val="0"/>
      </c:catAx>
      <c:valAx>
        <c:axId val="14666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0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6BE-8F07-4970-AF06-CA356B70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10A-D086-4B4A-8906-F98E27C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E25-2B82-43A3-8B36-4ACB9150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71E-F787-4CFD-84DC-286F4E38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E52-91D5-4D12-B7CD-5324010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304-9176-46A9-91F9-64C7548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374-33DF-4FE7-AB13-DE17351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87-2C8B-4AD6-AC9F-C4B3324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096-2FEE-4C97-A4B4-3A2167B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960-9BA3-4AD4-8931-488A94D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79E-EDFC-4CFC-AB0F-67DD672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327-0317-40E8-8A7F-199D2BE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A303-EC3B-4DDF-8A91-B2BAF8414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