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61440"/>
        <c:axId val="83080903"/>
      </c:barChart>
      <c:catAx>
        <c:axId val="65361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80903"/>
        <c:crosses val="autoZero"/>
        <c:auto val="1"/>
        <c:lblAlgn val="ctr"/>
        <c:lblOffset val="100"/>
        <c:noMultiLvlLbl val="0"/>
      </c:catAx>
      <c:valAx>
        <c:axId val="83080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61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19CC-5CF0-4833-BEA1-AAF31B70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DCB8-279B-45E3-9AB7-3614A084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3360-A20F-4ACF-BDC1-46270F9A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7A8-1A9C-4667-8733-DB65D4C5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8F1-2435-4537-A337-31213BC9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CB2-2456-4E2D-BA21-EF6B0814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DE1-22B6-4737-89F0-13BF233C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964-798E-4C08-9BE7-1A5230AF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1239-DBBF-4353-A911-D4103D53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C8C-A9E9-4BCB-92E8-BDCAD8B8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22E-23B8-43F3-ACA5-BB02A0BC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3C5-C5EF-455C-92FD-389B5BD2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D2C84-CBB3-44CA-B19F-80433F85EB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