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94076"/>
        <c:axId val="49546769"/>
      </c:barChart>
      <c:catAx>
        <c:axId val="45994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46769"/>
        <c:crosses val="autoZero"/>
        <c:auto val="1"/>
        <c:lblAlgn val="ctr"/>
        <c:lblOffset val="100"/>
        <c:noMultiLvlLbl val="0"/>
      </c:catAx>
      <c:valAx>
        <c:axId val="49546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94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3BC-A252-4501-9504-1AE0036E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722-3A77-486F-A395-21777CA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034-35D1-460A-920A-20799ABF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C87-8898-4164-9298-102B1317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CBE-077B-4B8B-83FA-2A61E9D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E0A-CAF8-4DA8-9BC7-2C469AB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C05-F15E-442B-8274-5CF64B2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373-2C20-4EFD-8C0E-85C695CB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340-BC66-4D3C-BEFA-D2F6F880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116-F577-4D1E-A3E2-EC522C4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6B2-2D7F-4B32-92DA-D6AF190F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61F-6016-4680-8076-66FD1B68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D926-93DC-4FA2-921F-2F961C99F1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