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77022"/>
        <c:axId val="42093496"/>
      </c:barChart>
      <c:catAx>
        <c:axId val="33177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93496"/>
        <c:crosses val="autoZero"/>
        <c:auto val="1"/>
        <c:lblAlgn val="ctr"/>
        <c:lblOffset val="100"/>
        <c:noMultiLvlLbl val="0"/>
      </c:catAx>
      <c:valAx>
        <c:axId val="42093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77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0D7-74B4-4D6A-A134-93F3A9C7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0DD-B65E-4969-BF25-BE4B883C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DA7-CA3A-45E8-863B-2D095B51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439-8176-4BAE-890B-D844772B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227-FEC0-456E-8492-13A1B8E9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828-9818-4231-BEAD-E631A100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AF3-10C9-442A-9308-2361798A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988-3052-41BD-9F01-3031FF99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E98-571B-437C-845F-55F26B0F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E25-8492-4466-B187-72DBC3AB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2DC-639D-4A69-97E5-BCCBA2A7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8F1-C939-4D9D-9E3C-DD1EB670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22C9C-B623-4679-960E-4F079EF5C9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