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159286"/>
        <c:axId val="40003705"/>
      </c:barChart>
      <c:catAx>
        <c:axId val="861592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003705"/>
        <c:crosses val="autoZero"/>
        <c:auto val="1"/>
        <c:lblAlgn val="ctr"/>
        <c:lblOffset val="100"/>
        <c:noMultiLvlLbl val="0"/>
      </c:catAx>
      <c:valAx>
        <c:axId val="400037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1592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ABE5-E476-4ECE-AC8F-55C7659D2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BA4C-E182-46B8-AA78-FD1EF59A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5B54-1DD8-46F7-A545-765143AD3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3202-78FF-41A1-BE4A-A21119F08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719E-E8C9-4DBF-8726-2E158687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111A-6304-4F55-A4F4-F1704E04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568C-F6AE-4901-9FCB-6941E312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F71C-6813-403E-94B3-B660AE69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CF7A-A443-4BB2-8FA3-84CE49EF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64DE-A339-4D6A-8F6A-9277A007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EA84-346D-4F83-B768-33CDE028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F3E1-19D0-47B9-A5DE-F290B047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F221D6-0908-44A9-B22D-B583B873E1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