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2514799"/>
        <c:axId val="66084893"/>
      </c:barChart>
      <c:catAx>
        <c:axId val="9251479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084893"/>
        <c:crosses val="autoZero"/>
        <c:auto val="1"/>
        <c:lblAlgn val="ctr"/>
        <c:lblOffset val="100"/>
        <c:noMultiLvlLbl val="0"/>
      </c:catAx>
      <c:valAx>
        <c:axId val="6608489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51479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197E8-CA68-4A10-B909-B9D3ECF25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4BB03-378A-442E-924C-C051A8173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DAAD1-80BB-4065-A5AD-14950DC71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216C7-5C00-4F31-93E4-3CEEB4BB2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C79F1-F3D4-4D2C-A599-E16DEFE7F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96DF8-2E7D-4A0D-8B0B-13BC88234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1D00F-CF5D-4B2D-A8D9-EEC947AD9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9C4EE-99A7-4790-A0C0-1656BADBE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07A6E-10B6-49A9-83A7-920E7B543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967D5-C43F-4445-9697-A07C4FBA1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A8833-E376-42AF-9D22-41753DAA2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8089D-8439-4700-9759-F9473E699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91BC26-0873-4EE1-A1B2-EDB7DEB3536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