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26140"/>
        <c:axId val="81720225"/>
      </c:barChart>
      <c:catAx>
        <c:axId val="96261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20225"/>
        <c:crosses val="autoZero"/>
        <c:auto val="1"/>
        <c:lblAlgn val="ctr"/>
        <c:lblOffset val="100"/>
        <c:noMultiLvlLbl val="0"/>
      </c:catAx>
      <c:valAx>
        <c:axId val="817202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61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9CA2-7A0D-4D66-8745-1CB685F5B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DE8B-5A77-4467-BB2E-29B1753A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6C62-9CD6-4C78-84DC-7932F2354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F746-4B17-4A31-9C61-68B6B12D7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9A9E-24E9-45C5-A7E6-CCAF63EA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2A15-35DA-4170-9BED-EB7A3792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1184-ED86-42D9-95B4-6BC80CA8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75C3-1ADD-456C-A502-7E5E9398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FA08-C464-40D1-9544-BA27FD0A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E435-ECDC-4E85-A637-22E83E1E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6C98-CE02-43C7-AC12-16F187BC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1EF0-06D2-4247-9015-AE554095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2D603-6548-406C-AE1E-154EB66DAA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