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03979"/>
        <c:axId val="78110717"/>
      </c:barChart>
      <c:catAx>
        <c:axId val="61303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10717"/>
        <c:crosses val="autoZero"/>
        <c:auto val="1"/>
        <c:lblAlgn val="ctr"/>
        <c:lblOffset val="100"/>
        <c:noMultiLvlLbl val="0"/>
      </c:catAx>
      <c:valAx>
        <c:axId val="78110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03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203-6D86-4DFF-90EA-D46C509B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078-7905-43D9-AB4F-266EF629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132-CF1D-479D-B612-FE3D5833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AE6-3179-4D4A-B26D-1756ACFB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A9D-699D-4E54-A24A-F29C5A5A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3E6-2A19-4900-AFA4-223F389E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FA4-F238-48A1-BFDE-AF55C232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7A8-584C-40AC-888C-563677B6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86D-71E3-4FD6-825D-EEC0E6FA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ADC-5E91-4BFA-A01D-6AE9BBF8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F41-F998-4AB9-A1B2-CD179D0D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5DE-4BA1-48F4-909C-490A43A5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6C98F-2728-40D7-9418-5ACD82E3AD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