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56706"/>
        <c:axId val="94927901"/>
      </c:barChart>
      <c:catAx>
        <c:axId val="36756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27901"/>
        <c:crosses val="autoZero"/>
        <c:auto val="1"/>
        <c:lblAlgn val="ctr"/>
        <c:lblOffset val="100"/>
        <c:noMultiLvlLbl val="0"/>
      </c:catAx>
      <c:valAx>
        <c:axId val="94927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56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840-363F-4821-A5B1-B2856684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74C-CAFE-45BA-AC13-E48F8E94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673-C9F9-4D4D-ADD0-6D276E78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A83-CD4F-4571-BE10-CC45A45D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C26-DC8D-4CD1-A8B9-955EB3D6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FE1-1701-4178-8D78-AA406165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487-D195-40C8-964D-3C3B9B36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9F7-0F67-412B-BEB4-1710586B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C5C-EC45-4258-81AC-2130696A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6D4-988C-4305-BBCE-DBA16A48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8E1-5162-4657-84C1-96AF3CCF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11A-7BD0-4DD5-9C2D-ADBB8E08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CDBC1-3D7E-4359-B5D7-17EE4F19D8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