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06430"/>
        <c:axId val="83541416"/>
      </c:barChart>
      <c:catAx>
        <c:axId val="87706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41416"/>
        <c:crosses val="autoZero"/>
        <c:auto val="1"/>
        <c:lblAlgn val="ctr"/>
        <c:lblOffset val="100"/>
        <c:noMultiLvlLbl val="0"/>
      </c:catAx>
      <c:valAx>
        <c:axId val="83541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06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727-1487-45ED-B42F-0E094305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B1E-831B-4156-BB05-8ABB810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0C2-593E-4FEC-8C5F-05C1E00E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86D-73FD-4A96-9367-F4CC5A11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776-D382-48C1-A90B-82C1AD0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216-FCBA-48C7-83F4-167D107B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7D4-BEAB-484C-A9C1-4D959B21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6D4-1CE0-4636-B739-F60D97D6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E7F-82AD-4E8C-BA17-E053D69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B51-E385-4539-AF3B-6EE69FE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696-C3BC-4B64-B07C-D460A67D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C25-5765-4618-B73D-B7565F5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3DD89-2739-4303-A892-937C6AA603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