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996759"/>
        <c:axId val="11614432"/>
      </c:barChart>
      <c:catAx>
        <c:axId val="12996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14432"/>
        <c:crosses val="autoZero"/>
        <c:auto val="1"/>
        <c:lblAlgn val="ctr"/>
        <c:lblOffset val="100"/>
        <c:noMultiLvlLbl val="0"/>
      </c:catAx>
      <c:valAx>
        <c:axId val="11614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96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22D8-302D-441B-8B68-0C098E82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8B83-C55C-426F-B9DC-D031C9C8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071-BA5B-4AE1-8DB1-12B8DFC4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129-6FBD-4EC3-8EAC-1D5FA117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795-3209-452A-A041-96C3E090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A87-9982-41C4-888C-4202862E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7469-BF21-40B3-83A8-ED96D5EA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8580-5FB3-4288-BD8D-147A0887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462A-F938-43F4-A376-577ED396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6D94-75E7-43B9-AAB5-F5E0707B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C486-565A-4C5E-B55D-C18F6571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D7DB-7353-46B6-8126-067B85CE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7E8C5-680B-43BE-9CE7-50795B110C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