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72151"/>
        <c:axId val="9524856"/>
      </c:barChart>
      <c:catAx>
        <c:axId val="38772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4856"/>
        <c:crosses val="autoZero"/>
        <c:auto val="1"/>
        <c:lblAlgn val="ctr"/>
        <c:lblOffset val="100"/>
        <c:noMultiLvlLbl val="0"/>
      </c:catAx>
      <c:valAx>
        <c:axId val="9524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72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5D94-96A1-4D8D-B4DA-268B3428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D2EA-1F28-40A7-A52B-E91CDFA3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B9B-35B7-42D0-8563-EB124493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62D-CD63-4C61-8ED4-A330E532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F7D-3F8E-4632-9FD6-68CB1563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8E9-B6D1-4A5B-9E04-DF5961FC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434-FCE8-438B-9506-B7D4562B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781-E739-42CC-8285-56A4E4A2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22FA-A815-4694-A433-E5AA6361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0C8-FF2B-429B-913E-7E179A40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1F81-F520-4EDD-A89D-08AA2C97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0BF-2C96-4697-BC9B-FA8F811F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19762-9AA0-4B27-98F3-E6D28007C2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