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9107"/>
        <c:axId val="62990642"/>
      </c:barChart>
      <c:catAx>
        <c:axId val="5249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90642"/>
        <c:crosses val="autoZero"/>
        <c:auto val="1"/>
        <c:lblAlgn val="ctr"/>
        <c:lblOffset val="100"/>
        <c:noMultiLvlLbl val="0"/>
      </c:catAx>
      <c:valAx>
        <c:axId val="62990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9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398-4894-4AF3-A34A-52CFA1A1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FF2-0EEB-4425-BA51-53944375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76E-3854-4E60-B512-2A5F173D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A20-5953-4ABE-BE0C-988761AB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81C-11A0-4686-8ED7-8614972F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64C-E64C-4075-9630-11EBA690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297-21D4-42FA-B2D3-D17D118C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1F4-9C72-4E28-A0B3-E3F51EC9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68E-0579-4897-9AC9-0DB1E354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8CA-3500-46B1-B816-1650CCAF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6AB-6D3F-4CB8-ADFE-47E5B32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F72-7958-48F2-8B80-55BB74F0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A5CCB-4817-4EF0-88EA-B269F00D4F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