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92197"/>
        <c:axId val="57242050"/>
      </c:barChart>
      <c:catAx>
        <c:axId val="62192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42050"/>
        <c:crosses val="autoZero"/>
        <c:auto val="1"/>
        <c:lblAlgn val="ctr"/>
        <c:lblOffset val="100"/>
        <c:noMultiLvlLbl val="0"/>
      </c:catAx>
      <c:valAx>
        <c:axId val="57242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92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678-A858-45EE-89B2-089AA746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C2E-581C-4E5C-9462-B837B3A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D89-5D9B-470E-9488-A4CAEA47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327-629E-49E0-98EF-95B7201D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4B7-F61C-44E9-8FA4-709C78D2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D7D-33FF-4669-898E-ADE499FB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336-A091-4A8E-BD58-C353A7C1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88F-BD23-4B34-A2DD-52AE677C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00C-2675-4127-829A-F51C7344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DA1-2613-4F3F-8790-CEC327E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DC4-902A-4A69-8AFB-1ACF3742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73A-B6B3-4EDD-864E-DAD782D5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4E0A1-EE16-41A8-8220-56F7E87289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