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842063"/>
        <c:axId val="80057409"/>
      </c:barChart>
      <c:catAx>
        <c:axId val="408420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57409"/>
        <c:crosses val="autoZero"/>
        <c:auto val="1"/>
        <c:lblAlgn val="ctr"/>
        <c:lblOffset val="100"/>
        <c:noMultiLvlLbl val="0"/>
      </c:catAx>
      <c:valAx>
        <c:axId val="800574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420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DB94-8A01-4738-99AC-EF789E64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755-AFDB-45DF-8FB2-BDEE3BBB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1B2-80A9-4833-BEAE-E9C8D097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81A-EDCD-465C-98BD-3B976E1A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AA67-92BE-47B7-8D1E-74354980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B448-AD70-4EB6-A9AE-81E25B36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31E5-3805-443C-AE75-0CA5DD6A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C696-CB40-4471-81DC-C586D700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1AFB-252C-4CF5-B8D8-78698C04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12CF-B317-4ECD-B366-8951A938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AE2D-BB6C-45D9-BBED-BCDBDB82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FF9-7D86-4D61-ADFD-79C146B2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FE5BA-EC9F-4F9D-A4AD-425015F0F9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