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82151"/>
        <c:axId val="78574363"/>
      </c:barChart>
      <c:catAx>
        <c:axId val="42082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74363"/>
        <c:crosses val="autoZero"/>
        <c:auto val="1"/>
        <c:lblAlgn val="ctr"/>
        <c:lblOffset val="100"/>
        <c:noMultiLvlLbl val="0"/>
      </c:catAx>
      <c:valAx>
        <c:axId val="78574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82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077-4380-47AC-89EF-0636E0DE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3B3-0C4B-4BC8-8F13-6020252E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2ED-E2F6-48FD-B5B2-B8683534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A83-94D5-4457-8358-003BA0E6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CBD-F376-402B-B30D-C6CF2B81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2FB-E82C-4C1C-8C80-895A6AE1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265-98A1-415F-ABBC-892943ED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2A7-B81B-4769-B4D0-BF0C9074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C05-FDCB-4FF6-A9BE-885868BE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818-2C67-418E-966D-76CF3AC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A41-E1C7-4F4D-9A02-60BF7F59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E38-B6AD-4AA1-A219-BF6D1E8F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D7479-7873-43B5-A6E7-3918A0B73D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