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29616"/>
        <c:axId val="45405213"/>
      </c:barChart>
      <c:catAx>
        <c:axId val="87429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05213"/>
        <c:crosses val="autoZero"/>
        <c:auto val="1"/>
        <c:lblAlgn val="ctr"/>
        <c:lblOffset val="100"/>
        <c:noMultiLvlLbl val="0"/>
      </c:catAx>
      <c:valAx>
        <c:axId val="45405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29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CFF-AD44-4709-9803-C19AD071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79C-F3E2-4FFB-85EC-50BCA3C0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E986-5A73-485D-8E42-A7E50741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E35-D48C-43C1-BAA7-AFD1CFA8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9AC-2CC1-425A-B68E-C0D9020A4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249-4619-4FEF-B852-AAC9E132E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C19B-3E5A-4CB0-BBDF-B6025CA1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6D4-D154-466F-8C58-26B1F0D2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816-381F-41EA-B467-145F49E3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7C0-11AC-43F4-AC6B-08E73D9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981-325A-4B9A-9048-7AED3E9B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F09F-EE68-4CBB-8DC6-2458F90C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855B7-236B-4F66-882E-6CA47C9D43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