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56635"/>
        <c:axId val="27715927"/>
      </c:barChart>
      <c:catAx>
        <c:axId val="59256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5927"/>
        <c:crosses val="autoZero"/>
        <c:auto val="1"/>
        <c:lblAlgn val="ctr"/>
        <c:lblOffset val="100"/>
        <c:noMultiLvlLbl val="0"/>
      </c:catAx>
      <c:valAx>
        <c:axId val="27715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56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9D1-9AFC-4927-AEC6-E9098248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FE6-1B54-4F8E-AD31-8C3E9E8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60B-974E-4706-B63B-526C503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C4B-63B0-4436-A7B9-7C981665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5C0-46A6-4F13-BF7F-FF71AA15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D2B-6276-4607-83E2-0F6409D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63C-F50A-4C5C-8052-CCDB87F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42B-0497-4275-A15C-EA4AE874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37A-DE26-445F-89E8-95C0B628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50C-357B-4FA9-9A41-DEFAB73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6EA-EED1-484C-A2EC-9FBEAF2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E7F-CA79-43B1-AF78-49EC1A8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7AED6-927C-4842-A1F5-8CBB7622A4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