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490"/>
        <c:axId val="55307969"/>
      </c:barChart>
      <c:catAx>
        <c:axId val="749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07969"/>
        <c:crosses val="autoZero"/>
        <c:auto val="1"/>
        <c:lblAlgn val="ctr"/>
        <c:lblOffset val="100"/>
        <c:noMultiLvlLbl val="0"/>
      </c:catAx>
      <c:valAx>
        <c:axId val="55307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3AF-FCB6-46C0-B95A-42758B9B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382-37CD-409B-8832-4B49DFA2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94E-494F-41EA-A47A-527E4780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C1F-B36C-4349-9708-16FFA90A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9EF-0C72-4CE7-8443-5CFB170E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00A-F26B-4285-92B5-D7B6C571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9F4-68D8-4AD4-9835-870ACA7B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784-B376-4C3B-A47F-009A87F5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D84-5EC7-4D2A-992A-DAB74AAC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DC6-FDDC-4494-B6EF-1FDD62E2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764-D8D6-4084-8B74-6AA365A5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44B-D9F5-4447-935F-BBB6097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65584-58B0-4AF2-93F9-CFA02C8739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