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99071"/>
        <c:axId val="17784862"/>
      </c:barChart>
      <c:catAx>
        <c:axId val="574990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84862"/>
        <c:crosses val="autoZero"/>
        <c:auto val="1"/>
        <c:lblAlgn val="ctr"/>
        <c:lblOffset val="100"/>
        <c:noMultiLvlLbl val="0"/>
      </c:catAx>
      <c:valAx>
        <c:axId val="177848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990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BBB-C00D-4FB1-AA17-2C75CCE3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77F-6E6F-4C7E-B36C-D1624EA7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8A33-CAEC-4BB5-8F97-C3A62A42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6E3-5CBA-49D8-AEDD-1FC01B8F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4CD3-49E3-4FE5-B041-308B1B1C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DE96-5701-4809-85CB-57DCBEB6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EE7-A76D-4395-A442-145A0E36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AAED-CAF4-4CB9-9826-B43B56A0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E8C-A4A5-452E-8B76-DC4E2D66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69EA-9486-4E92-9D0C-C69CEC43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BA2-D7E5-48A0-8963-F8466B90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1F7-C2CB-42A5-A292-E424AD19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724C6-25E6-441A-AFC2-1DF4747362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