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85859"/>
        <c:axId val="32012695"/>
      </c:barChart>
      <c:catAx>
        <c:axId val="72785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2695"/>
        <c:crosses val="autoZero"/>
        <c:auto val="1"/>
        <c:lblAlgn val="ctr"/>
        <c:lblOffset val="100"/>
        <c:noMultiLvlLbl val="0"/>
      </c:catAx>
      <c:valAx>
        <c:axId val="32012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85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395-214B-49F8-BB57-8328E608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67B-0CB4-466E-8E1A-F5DC754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6AA-D510-4A77-B9C1-F3338FB4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98E-5525-42C4-812E-17E6E359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378-B266-484C-9713-F8CB34C9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DB7-0FD8-46F9-935F-3D27990D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341-639E-4F29-AB3D-84330993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1DC-862E-4483-9311-F405D04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AFE-B55C-44B6-B63E-7781D7A1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D7C-ADFB-4989-96F3-F8D8561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BA8-DF61-46FD-92A2-50B88E0A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61A-B528-4452-885D-0F5328AE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58313-21E3-4B0D-87CA-742AC050E4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