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458404"/>
        <c:axId val="44783999"/>
      </c:barChart>
      <c:catAx>
        <c:axId val="614584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783999"/>
        <c:crosses val="autoZero"/>
        <c:auto val="1"/>
        <c:lblAlgn val="ctr"/>
        <c:lblOffset val="100"/>
        <c:noMultiLvlLbl val="0"/>
      </c:catAx>
      <c:valAx>
        <c:axId val="447839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4584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202F-EC34-4479-96D1-E880A9D53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0DC3-E8C9-468A-9816-61C3342C4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A336-A385-4038-BD4B-22D94E7FD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48CD-D760-4697-9F18-1182F191C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EFF7-356A-4DD7-97C9-EF652C4CD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AE8E-6C07-4D89-B862-62C4C94DA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AE3A-AF8B-4794-B440-3464C009F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E254-6796-4140-B686-F95F49041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9C3D-1535-4A43-9012-D78AA12C4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EDDA-EC84-4395-9C6F-743B156D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0775-344E-49F4-9C98-A8EFD5E3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E313-1663-432F-9FD2-32CF5B5B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6702DD-22BE-4634-B380-DC0389D316E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