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15700"/>
        <c:axId val="62876544"/>
      </c:barChart>
      <c:catAx>
        <c:axId val="84215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76544"/>
        <c:crosses val="autoZero"/>
        <c:auto val="1"/>
        <c:lblAlgn val="ctr"/>
        <c:lblOffset val="100"/>
        <c:noMultiLvlLbl val="0"/>
      </c:catAx>
      <c:valAx>
        <c:axId val="62876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15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0ED-115E-4EFE-B91F-30FDFEE2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B70-889A-498E-AC53-09E8A231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C24A-1165-4B24-951F-AF565D92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03E0-3071-42D7-A9DA-93EF97F0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0D4-0298-4FD6-8201-61BE3E32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B856-773E-4F21-9ED3-CFD65ECC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E05-E2FF-41E7-B95F-68559BB8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7201-D465-4DA2-B275-A8B2CD56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559-F395-4686-80D2-DBF06E7E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CB3E-949A-4E82-A5C4-A805332B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75A-6CC2-43A6-B474-84E9364E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3EE6-5F97-4B48-9697-8C870E02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C1C98-A37B-425C-96D2-755998B5EE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