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31645"/>
        <c:axId val="92686091"/>
      </c:barChart>
      <c:catAx>
        <c:axId val="11531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86091"/>
        <c:crosses val="autoZero"/>
        <c:auto val="1"/>
        <c:lblAlgn val="ctr"/>
        <c:lblOffset val="100"/>
        <c:noMultiLvlLbl val="0"/>
      </c:catAx>
      <c:valAx>
        <c:axId val="92686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31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15C-9640-45CA-A2E2-01673BB2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E14-60BA-4DBD-9AC5-F6F044A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01E-FAE4-4B03-A8DC-66CA7D32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0A1-2797-4495-840B-ED6C5531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D2E-D537-4C38-9B93-42884856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FCB-918E-40D5-A4DE-8D44B325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294-BC4F-4EDE-A107-17D42B9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5DC-91CA-4257-A0CF-F474E781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872-6FEA-4BB9-8B23-12D0F9A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589-3BFF-4DC7-A151-C05E13B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924-DA83-447F-BAA0-E50BB60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245-5E33-4BF2-8176-F607A6C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538FD-EFB4-43BB-A96C-5425577F1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