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65196"/>
        <c:axId val="56253962"/>
      </c:barChart>
      <c:catAx>
        <c:axId val="642651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53962"/>
        <c:crosses val="autoZero"/>
        <c:auto val="1"/>
        <c:lblAlgn val="ctr"/>
        <c:lblOffset val="100"/>
        <c:noMultiLvlLbl val="0"/>
      </c:catAx>
      <c:valAx>
        <c:axId val="56253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651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FAB-22AD-4271-B14A-322672AE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2D6F-265F-4C9C-843E-67786FFC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19A-4F3D-4E05-B804-B2BB4218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1EB-FC6F-426C-B2E3-81291FE7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C592-7CDC-47F0-AF3F-98835775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BBB-896F-4B75-844D-8869F95C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64D-D63C-4A31-8E60-664A060F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6A0-2AD1-4CC2-A912-0A76DE95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C42A-300A-41FC-93E5-8CECBF72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D7B-B3BF-4863-8AE0-C8897818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A7B2-F38F-4127-91C1-823090D8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9829-1013-4784-9C3F-E2A1B19A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8CBA7-F7F8-48EF-B462-FF90E44522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