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41879"/>
        <c:axId val="27387395"/>
      </c:barChart>
      <c:catAx>
        <c:axId val="91041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87395"/>
        <c:crosses val="autoZero"/>
        <c:auto val="1"/>
        <c:lblAlgn val="ctr"/>
        <c:lblOffset val="100"/>
        <c:noMultiLvlLbl val="0"/>
      </c:catAx>
      <c:valAx>
        <c:axId val="27387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41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4AD-12BD-4B26-AE82-56D9B424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2DB-B234-427B-B46D-7B7ACBD8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A92-502E-4F17-BE24-0DB80E8E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3D0-31CB-48B1-A33E-03FF152B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D4B-694B-47FD-9D35-89B2D382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5CA-F229-4374-BEC8-573F9C8B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FD9-2A3D-494A-983A-ADD0F16E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5D5-9FE2-48BE-A3A4-265E8D4E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A27-1EDD-4CDE-8595-52A475C2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AE1-C6E7-4D32-A154-3D7733F8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5A9-7C59-4C53-BEEA-A634AD66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9C3-FDFB-432E-AF5B-B37897B6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E9975-02CB-4E39-B07A-6AC5537507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