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45737"/>
        <c:axId val="22432887"/>
      </c:barChart>
      <c:catAx>
        <c:axId val="57845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32887"/>
        <c:crosses val="autoZero"/>
        <c:auto val="1"/>
        <c:lblAlgn val="ctr"/>
        <c:lblOffset val="100"/>
        <c:noMultiLvlLbl val="0"/>
      </c:catAx>
      <c:valAx>
        <c:axId val="22432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45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DB0-E4E4-4BA7-816E-EF5881F8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773-EABD-4272-AAD8-836FE42E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B18-B6EE-4801-92D1-5C316C81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C63-49C8-4087-BD3C-32E833B5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82F-242B-4597-997F-DFC0F085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693-9B0E-483E-AC82-A898ABAB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507-DF70-46B2-8660-F1181AF0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E02-5A23-44BA-B23E-8160DC25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2AC-2C19-4BC8-8798-0C371390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17E-FC47-4D33-B8E9-A493D89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3FD-E23F-4978-A0E2-B43A7046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7C4-8B88-483E-B8A2-1854381E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B9483-A705-4033-8F78-C3BCD340E0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