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49764"/>
        <c:axId val="63452023"/>
      </c:barChart>
      <c:catAx>
        <c:axId val="41449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52023"/>
        <c:crosses val="autoZero"/>
        <c:auto val="1"/>
        <c:lblAlgn val="ctr"/>
        <c:lblOffset val="100"/>
        <c:noMultiLvlLbl val="0"/>
      </c:catAx>
      <c:valAx>
        <c:axId val="63452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49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7D9-A2B3-4DEB-8C94-EECD82FB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493-870A-429A-AA4F-815E0219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DDF-533F-4745-9838-DA853E4A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521-D9DD-4677-97AB-6F718A77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9C9-4081-4F1B-AEC8-464E1852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1F5-79AC-4293-90B8-744CC38F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93C-71EF-4825-A65A-776BD774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5AE-AB8B-47B7-81A8-028FECC0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B74-4EC5-456F-9A23-6E406F76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7BA-8200-4118-865C-DD16F0A2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D66-69A8-4A8A-8A69-51557FD8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FDE-5A92-47AF-A2E3-DB26004E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D8677-FA94-4920-BC86-4568BCADDA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