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52743"/>
        <c:axId val="73108215"/>
      </c:barChart>
      <c:catAx>
        <c:axId val="311527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08215"/>
        <c:crosses val="autoZero"/>
        <c:auto val="1"/>
        <c:lblAlgn val="ctr"/>
        <c:lblOffset val="100"/>
        <c:noMultiLvlLbl val="0"/>
      </c:catAx>
      <c:valAx>
        <c:axId val="73108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527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22B-184B-4056-A6CE-10C898EE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491-BDDE-4303-91ED-83E0CF94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33E4-D4E6-4BA7-B143-2E850D2B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E177-2BE3-48EF-BF7F-719B62EA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8DE9-9B45-4A99-A101-31939622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C51-FF44-41C5-97ED-B8D40191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0E9-6D1E-4566-91D6-7E873668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1E0-318D-4591-BC76-D5C6B52B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5E5E-7ED5-4B20-B27A-C79BCE18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E2B-D727-462F-B53D-CB65E9C2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FFF-EF6A-4BA4-B324-4AF39DF4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A21-7AEF-4680-AAE6-AD92394B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AEDD8-D2C2-4F7E-8AC8-E02E43B52B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