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51183"/>
        <c:axId val="24631299"/>
      </c:barChart>
      <c:catAx>
        <c:axId val="32051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1299"/>
        <c:crosses val="autoZero"/>
        <c:auto val="1"/>
        <c:lblAlgn val="ctr"/>
        <c:lblOffset val="100"/>
        <c:noMultiLvlLbl val="0"/>
      </c:catAx>
      <c:valAx>
        <c:axId val="24631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1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3ED-2C6E-496D-9F08-875092E1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036-1876-455A-8DEC-7C83D81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2F3-795A-4EB1-9187-D5060792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A3E-3F67-4F15-A10E-714AEE90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011-107A-46F0-8EC7-47B497C1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362-5E8E-48C9-B0B3-CCC451E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485-F76C-45FF-8B39-33C66FC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C4A-8DFB-4657-B8F4-FEA64EF4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6E1-A832-4444-AE97-E4546D0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F0D-FD59-49E0-88FC-3AE6FBB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A1F-649A-402A-A667-40A76C3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D32-1326-44F7-938E-F3BA890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BD765-D05D-4AD7-98D0-456815533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