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234"/>
        <c:axId val="76958507"/>
      </c:barChart>
      <c:catAx>
        <c:axId val="629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58507"/>
        <c:crosses val="autoZero"/>
        <c:auto val="1"/>
        <c:lblAlgn val="ctr"/>
        <c:lblOffset val="100"/>
        <c:noMultiLvlLbl val="0"/>
      </c:catAx>
      <c:valAx>
        <c:axId val="76958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EEF-24C0-4440-A7B1-9393C1D6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DE6-5099-4E24-B1F4-2247D40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B36-E485-4486-AD6C-75A4EB31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6FD-A706-4663-9E64-2C463537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DA0-FAB1-47A0-9BCF-C5C53EF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8E2-391A-4E5D-983D-5466E03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F09-6BDE-482B-A9DD-A539F111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00B-33A1-4750-8079-998C4A0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FC-45F0-4DBE-88F8-E71E6F14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8EF-608C-4FE5-A303-646009F2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AAF-0CFF-486A-A756-A28F77D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442-FE0F-4814-BA90-BBBDCE54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3FDE8-EA61-42CD-B2C6-CF3478D06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