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17318"/>
        <c:axId val="99054480"/>
      </c:barChart>
      <c:catAx>
        <c:axId val="25717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54480"/>
        <c:crosses val="autoZero"/>
        <c:auto val="1"/>
        <c:lblAlgn val="ctr"/>
        <c:lblOffset val="100"/>
        <c:noMultiLvlLbl val="0"/>
      </c:catAx>
      <c:valAx>
        <c:axId val="99054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17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A12-EF85-43EA-AE66-EEC423E3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08D-1CD5-4BFE-8036-E49C782B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035-693A-4B53-841E-9BCA43BE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BE4-DC00-429B-9C21-E11153FF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CAD-6B83-47FD-ACA3-9E7163A9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058-C17F-4E5F-9EE1-FFFC4A7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BCC-B896-4BFD-9B1C-75B960C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EC3-7DF8-4062-8C61-6024895F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4C9-F9DA-44B3-A48C-867821D9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9BC-2C56-4CEB-9A23-7BA28EF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681-17D0-41DE-B6C5-10224BF1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380-932F-40CB-8246-8D58F36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1D15B-4EAB-45F5-B8D5-DC307D4FF4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