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73279"/>
        <c:axId val="61850073"/>
      </c:barChart>
      <c:catAx>
        <c:axId val="42173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50073"/>
        <c:crosses val="autoZero"/>
        <c:auto val="1"/>
        <c:lblAlgn val="ctr"/>
        <c:lblOffset val="100"/>
        <c:noMultiLvlLbl val="0"/>
      </c:catAx>
      <c:valAx>
        <c:axId val="61850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73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3646-E161-41A9-A2C3-B4C8B54D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46A4-4A66-4A6A-940B-ECC49562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371-1976-4628-9032-B1471324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79E4-18B1-41E3-A556-6A5B5A5C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C460-1852-49E8-A397-37C3F7FE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685-F4AA-44E6-B06C-D336A380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6C3-488D-405B-AE00-C8B46F1F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F95-7A95-410F-93F6-10B1EE73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7EA-C966-43E9-9589-8103ECD4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EC84-7087-468B-B087-0B256472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2761-55A9-4076-BAEB-6F3F4F1A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CBB-1C10-4DBE-9EFB-F7ECE1B1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55311-8919-4C59-9B1F-7C47FAA1F1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