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692937"/>
        <c:axId val="81708644"/>
      </c:barChart>
      <c:catAx>
        <c:axId val="246929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708644"/>
        <c:crosses val="autoZero"/>
        <c:auto val="1"/>
        <c:lblAlgn val="ctr"/>
        <c:lblOffset val="100"/>
        <c:noMultiLvlLbl val="0"/>
      </c:catAx>
      <c:valAx>
        <c:axId val="817086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6929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C52F-2A32-40C2-BAD3-BDB154D24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C556-6D69-4CC1-8FA8-5A45F7DF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B4BC-B772-4431-A250-7F5CF6DFE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E7D1-28F5-4614-9D13-5EF9F7126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1D63-6D17-4AA2-95E2-9BCDFCEE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B778-088C-421E-97BB-0D39C577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4166-5C1A-4114-BDA6-ABF33C22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98ED-D9E2-457D-996B-015D82AD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C689-D627-4E0D-AFA7-05FAF837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07F1-310B-45CD-8C7E-4C3E1BC7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7431-3290-4D47-A870-85BBA500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83E2-77B0-4209-AE4D-26705BE0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ED5E98-30F8-4BDC-ACCB-596A7E4507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