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5374"/>
        <c:axId val="31975194"/>
      </c:barChart>
      <c:catAx>
        <c:axId val="8065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75194"/>
        <c:crosses val="autoZero"/>
        <c:auto val="1"/>
        <c:lblAlgn val="ctr"/>
        <c:lblOffset val="100"/>
        <c:noMultiLvlLbl val="0"/>
      </c:catAx>
      <c:valAx>
        <c:axId val="31975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B01-96CC-4F88-B6F0-EAFAB93D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374-CB3B-412E-B8EB-AA0758BF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248-76B3-445D-B92D-E441F844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C1D-5FE9-48C9-95BA-0686F400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A08-D33C-45D6-9F54-2893DDAA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E04-4D70-4DB8-8D87-6E34D801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2B2-F0EA-4579-8FFF-7D83F797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295-B95A-4109-A377-CDA0DEC4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3F9-EA90-4E9C-9601-51F688B4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608-E409-430A-BF46-9A459BA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BB4-5DFB-428C-8A80-514755AC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0B4-ADD4-410C-BA40-3139E28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DCA8A-0959-4C57-9FDC-68E4BF40C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