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030685"/>
        <c:axId val="67768056"/>
      </c:barChart>
      <c:catAx>
        <c:axId val="503068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768056"/>
        <c:crosses val="autoZero"/>
        <c:auto val="1"/>
        <c:lblAlgn val="ctr"/>
        <c:lblOffset val="100"/>
        <c:noMultiLvlLbl val="0"/>
      </c:catAx>
      <c:valAx>
        <c:axId val="6776805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3068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8083-385F-4417-8091-E89C3E076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CA12-AA28-442A-A30F-FE31D0589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B04F-8424-4355-A79F-D37D8BCB9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18B1-9FAB-44F8-9630-0B9793E1C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FDA2-9C83-40F2-B7EA-E604454EF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0287-A06C-4E45-A8C0-370F6B989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5E8D-D82E-433A-BA9F-043CC85BF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DB4C-C93E-4BC9-A5E5-74946EC3D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F30D-0C97-44B0-BBB4-C93C42A2C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2AEE-D551-4BE0-BF22-98AAF0350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CEED-6D4A-4EFC-A14B-9B037638B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6231-63B6-40F9-955B-FC3697EDA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3F04D3-F324-4F0B-A1C7-9549640DB3B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